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F811-6F66-425E-A88E-42198DCEB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E24A-8FED-4D7E-83FF-7A7CBB008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C09C-85ED-44FF-AF35-E1DE4CAEA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88FD-935D-441A-A5C5-92D232C46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A125-19E5-4BAB-9441-79D1D994E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2662-0CD9-4DE1-8527-9D377594E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D87F-397C-4887-BE17-E6691BFF0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62FF-280C-41B9-A074-5DFD1C959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E68D-CBF6-4C48-AF66-A27E9FBE7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BA69-29FA-49FC-AA4B-9BEE3AFEA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9702-9387-421D-8CF1-230CEDCC2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0430-249F-40B9-9736-C262B983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CE0A-D9EB-4F9C-9CBE-BBA6FEEE3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20CC-9F62-4414-B065-4C8076FFE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4B9A-C550-45A1-8E69-6FDF6FF7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47D1-5B53-4844-85FB-D890F6FB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8B47-66D9-4F72-979B-35BBD826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5BE4-3029-4F0F-9624-BB4D40E0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62B6-EED9-490A-9AB1-06693CEC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944E-DA02-487B-AEA1-97F1D3D7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36DB-11FE-490F-8F49-4E97D3C2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04D6-6960-494B-A332-91274124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491A-79CF-42EF-87EF-9C99B011A9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0"/>
          <p:cNvSpPr/>
          <p:nvPr/>
        </p:nvSpPr>
        <p:spPr>
          <a:xfrm>
            <a:off x="76320" y="65160"/>
            <a:ext cx="5333760" cy="10688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ject Execution Planning for Building Information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PACE: The Partnership for Achieving Construction Excellence"/>
          <p:cNvPicPr/>
          <p:nvPr/>
        </p:nvPicPr>
        <p:blipFill>
          <a:blip r:embed="rId2"/>
          <a:stretch/>
        </p:blipFill>
        <p:spPr>
          <a:xfrm>
            <a:off x="2743200" y="3505320"/>
            <a:ext cx="4524480" cy="384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Penn State Office of Physical Plant"/>
          <p:cNvPicPr/>
          <p:nvPr/>
        </p:nvPicPr>
        <p:blipFill>
          <a:blip r:embed="rId3"/>
          <a:stretch/>
        </p:blipFill>
        <p:spPr>
          <a:xfrm>
            <a:off x="5943600" y="2514600"/>
            <a:ext cx="2009880" cy="657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II logo"/>
          <p:cNvPicPr/>
          <p:nvPr/>
        </p:nvPicPr>
        <p:blipFill>
          <a:blip r:embed="rId4"/>
          <a:stretch/>
        </p:blipFill>
        <p:spPr>
          <a:xfrm>
            <a:off x="6781680" y="1600200"/>
            <a:ext cx="914400" cy="520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www.pankowfoundation.org/images/pankow_site_logo.gif"/>
          <p:cNvPicPr/>
          <p:nvPr/>
        </p:nvPicPr>
        <p:blipFill>
          <a:blip r:embed="rId5"/>
          <a:srcRect l="0" t="0" r="0" b="8522"/>
          <a:stretch/>
        </p:blipFill>
        <p:spPr>
          <a:xfrm>
            <a:off x="6095880" y="228600"/>
            <a:ext cx="1789200" cy="1114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12"/>
          <p:cNvSpPr/>
          <p:nvPr/>
        </p:nvSpPr>
        <p:spPr>
          <a:xfrm>
            <a:off x="685800" y="1295280"/>
            <a:ext cx="5181480" cy="459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gress Meeting #3 – August 26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76320" y="2057400"/>
            <a:ext cx="4876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 buildingSMART Alliance project sponsored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Charles Pankow Foun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nstruction Industry Institute (C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enn State Office of Physical Plant (O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457200" y="0"/>
            <a:ext cx="60958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onference Call 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533520" y="1295280"/>
            <a:ext cx="815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rod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gress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scussion of Project and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t Up Next Meeting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457200" y="0"/>
            <a:ext cx="60958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eam Me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"/>
          <p:cNvSpPr/>
          <p:nvPr/>
        </p:nvSpPr>
        <p:spPr>
          <a:xfrm>
            <a:off x="533520" y="1295280"/>
            <a:ext cx="8153280" cy="52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Board of Advis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Deke Smith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– Executive Director of buildingSMART Alliance (Industry Champion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Victor Sanvido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Ph.D., Senior Vice President, Southland Industr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Francois Grobler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Ph.D., US Army CERL and IAI - North Ameri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Steve Hagan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– Project Knowledge Center, U.S. General Services Administ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Soad Kousheshi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President, AEC Strateg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Ed Gannon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Manager of Design Services, Penn State Office of Physical Pla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Mark Falzarano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– Barton Malow Compan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Mark Butler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– HD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IC Research Program Team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John Messner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– Director of the CIC Research Progra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Chimay Anumba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– Professor and Head of Architectural Engineer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Sam Hunter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Assist. Professor of Psycholog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Craig Dubler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– PhD Student, Architectural Engineering (Construction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Colleen Kasprzak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MS Student, Architectural Engineering (Operation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Chitwan Saluja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MS Student, Architectural Engineering (Planning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Nevena Zikic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MS Student, Architectural Engineering (Design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Shane Goodman –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BAE/MAE Student, Architectural Engineer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Sponsor Represen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Bob Tener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–  Director, The Charles Pankow Foundation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Steve Thomas 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– Director of Research, The Construction Industry Institu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457200" y="0"/>
            <a:ext cx="5410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rogress R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533520" y="1295280"/>
            <a:ext cx="792468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ntinuing to develop initial concept for BIM Execution Planning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terview process under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ntent analysis performed on completed intervie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veloped initial BIM goals for BIM Execution Planning course for fall 2008, started to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8"/>
          <p:cNvSpPr/>
          <p:nvPr/>
        </p:nvSpPr>
        <p:spPr>
          <a:xfrm>
            <a:off x="228600" y="2590920"/>
            <a:ext cx="2362320" cy="1904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cision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oject Characteristics +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IM Objec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3"/>
          <p:cNvSpPr/>
          <p:nvPr/>
        </p:nvSpPr>
        <p:spPr>
          <a:xfrm>
            <a:off x="6553080" y="2590920"/>
            <a:ext cx="2362320" cy="1904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uide for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IM Go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9"/>
          <p:cNvSpPr/>
          <p:nvPr/>
        </p:nvSpPr>
        <p:spPr>
          <a:xfrm>
            <a:off x="76320" y="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BIM Execution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3429000" y="2743200"/>
            <a:ext cx="236232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cision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ight Arrow 27"/>
          <p:cNvSpPr/>
          <p:nvPr/>
        </p:nvSpPr>
        <p:spPr>
          <a:xfrm>
            <a:off x="2362320" y="3124080"/>
            <a:ext cx="1218960" cy="152640"/>
          </a:xfrm>
          <a:prstGeom prst="rightArrow">
            <a:avLst>
              <a:gd name="adj1" fmla="val 50000"/>
              <a:gd name="adj2" fmla="val 49912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ight Arrow 28"/>
          <p:cNvSpPr/>
          <p:nvPr/>
        </p:nvSpPr>
        <p:spPr>
          <a:xfrm>
            <a:off x="5638680" y="3124080"/>
            <a:ext cx="1219320" cy="152640"/>
          </a:xfrm>
          <a:prstGeom prst="rightArrow">
            <a:avLst>
              <a:gd name="adj1" fmla="val 50000"/>
              <a:gd name="adj2" fmla="val 49926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457200" y="0"/>
            <a:ext cx="60958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Decision Matr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533520" y="1295280"/>
            <a:ext cx="815328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ased on project characteristic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roduct/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s the building MEP intensi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oes the company have appropriate experie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oes the company have the appropriate too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s the project fast track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s the project cost driv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What are the local cod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What are the critical access poi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ommitment/Con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What is the project delivery syst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533520" y="63244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information can also be used for a BIM project rating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533520" y="0"/>
            <a:ext cx="5410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hat’s N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533520" y="1295280"/>
            <a:ext cx="792468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tinual Development of Guid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erviews – complete list of 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se Study Vi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IM Ex Course – AE 597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search and Document BIM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ase Study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533520" y="0"/>
            <a:ext cx="5410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Discu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533520" y="1295280"/>
            <a:ext cx="79246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ays that you can help 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terview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ase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ass 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jects to test drive BIM Execution Pla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457200" y="0"/>
            <a:ext cx="541008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533520" y="12952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ext Meeting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4:11:04Z</dcterms:created>
  <dc:creator>cmk264</dc:creator>
  <dc:description/>
  <dc:language>en-US</dc:language>
  <cp:lastModifiedBy>crd137</cp:lastModifiedBy>
  <dcterms:modified xsi:type="dcterms:W3CDTF">2008-08-25T20:00:56Z</dcterms:modified>
  <cp:revision>134</cp:revision>
  <dc:subject/>
  <dc:title>Slide 1</dc:title>
</cp:coreProperties>
</file>